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443-1D8F-4AD6-B1AA-6E8F1B7E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78E-48E3-4C64-BA97-18F45B7C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9259F-2161-4E44-A426-B74075D2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4EBFA-7B38-49B6-81CF-DE3556D1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C649B-2D3C-43CB-9FA8-971F73BF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0F272-1C9C-4DDE-B0D6-FDE1FBF9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261E6-08E3-400C-A0C5-5238825E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FF006-76A3-494F-B7A8-B0407A8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5BF30-657F-414D-BFDB-C686B635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AFCDD-6BC4-4BEB-8EB0-A0175F9A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A1F1D-4350-409F-AA7E-AB9E11F6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F2331-859D-43F1-BF0B-E5C35BDD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EA0-9A91-41EA-A3E5-968E4CB5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6F950-BF2F-4578-8698-2CD08C88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D738F-6689-4665-8287-B8F16BB2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19495-746A-48C9-B32C-B8B60F79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EE2F8-FF68-4A95-83D3-F4A7B613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407BB-C27F-4D43-A390-3952BFB3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833B5-F208-4BD0-83FB-627A605D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0C1AF-2938-4071-8D63-E8FDD13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14D1F-6492-4B02-B838-9C25805A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4055E-218B-48B0-B1C0-C73991F8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CEC84-AC7B-41A8-82EB-63EF42F1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327-9D6D-43E3-A181-9951C04C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35F01-9AB6-45B0-A6CB-E649F676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A01D1-CDC5-4B72-A1CA-90C3F9D0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8C8CE-C328-4846-BF4E-CEA14E33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706BC-F1CE-43DE-ABB3-B8B43B23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2EF4A-9FEE-4A9C-A171-AC0A4CF7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E4BE2-E411-4CA4-AADE-086A57C3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14DB2-F43D-4EF0-BFC7-252F3616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DE09D-5245-4C9B-AB0D-79923321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58A1D-C5F5-4844-A42D-A6E3F32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54DBC-756B-442B-AE7B-32109DC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6E59-D2F2-49A4-A1B4-ED833E7D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71027-C805-459A-AFC1-F6DD2E8D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32D96-712E-4F5E-813C-9440DEF0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E68A9-8CD4-43B2-B018-E9554F82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410F8-BF65-4F24-B26B-6AC4577B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64D84-9187-4CF0-AF33-CF12B367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61DFD-5F4D-4B51-87AD-51AEC326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DF056-535A-48FA-9D7C-FAF8623F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CD75B-0EE1-4408-89DA-6F1046A9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D0EAD-F779-40E3-B9E8-FA6A69D3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1CF80-29B6-49C8-842E-0AD8A701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41C5-2AC2-41BA-A068-2E889CAB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0B063-3B1D-444D-8A7A-942FDE7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AEF69-39A2-4FEA-9B1A-20C16CF0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A380F-ED23-4BE4-A959-C23F0680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C2C66-6B56-4445-9D3A-917D3975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238B9-BF83-4B55-9734-92B553FE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4CBED-5F5D-4C5E-86EC-C2B7398F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27F5C-3B87-4914-BA14-38D82B03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C117B-22E6-463D-BDD0-AECD3BB5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13D86-2C5B-4033-BC41-71F14337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DCB92-06EE-4F74-BB76-3C0EA55D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6783-23D5-4385-B4FC-74EC536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D156A-8300-46AF-B831-BB58B88D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97437-873C-4CF8-A145-93F4798E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75CA1-D9E4-437F-8977-9A75C02D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88231-EDD8-4937-B0EB-D0B02202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B136F-DAB6-45E8-9C88-5E5E5F80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21FCF-1AE1-47B1-8854-EF7FA992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93822-5CC5-46C7-8304-B8C03505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797A8-A597-48A9-8508-C149504C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B385C-39EE-4F7B-BA7D-D778E4C0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68499-DA42-4A5A-8004-3C1B6EA4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94D6-9C21-4B36-B859-6282AC59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1514C-96FF-4078-8FA3-803D89A4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D6583-2DDB-44BD-9A7D-18A6C35B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D3F7A-8189-4EC0-8B3E-9BEBEF07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A53D2-B6E9-4B6B-A188-9A17E992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CAE12-FD29-45F6-9970-600CC76F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19B1E8-74EF-4C3B-8BF9-9293963C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F677B-747F-4192-84A1-D7C9A6B0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0F0F3-52D2-4540-9901-9DC1D0DA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5F09F-29C8-4EA0-9958-78E6D5C3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5C28B-D279-40A1-807B-1F09D9D4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980D-9265-4A4A-9CD5-3D6995BF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89949-97C7-4CD7-A325-E7E16B72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DE192-35B0-42AC-B199-DDB9CB23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C822C-CB22-4F0C-9986-3E2DD8E6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179F7-7C76-4378-9ECE-9FDB20C8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D2891-278D-4A42-BC9C-7A42E5FF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BE06D-BA39-4DCC-A753-4887BB83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F62D57-46B0-4B63-93FD-A699E2FA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A0185-9614-4EE7-B717-B43A1226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A57FFD-7144-4FD3-A157-D75159C4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28153-E5FC-4859-B245-0CA0EA6C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2EFF-B497-4085-B48C-DD7EA6EB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B1111-22F5-4B8B-B9B8-BF359DC8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9EBAA1-0555-4041-9459-A5DEFABC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054C15-0CC1-4673-9C99-F493CCB7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19500-90CB-4C29-B906-F2EF0ED4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88CCB-59DD-40C0-B556-69E4B2FC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27267-888C-489F-A8A8-18E655F8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ED2E7-4B5D-406E-B478-464736CA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15622-A67C-4099-8680-5B69B185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0A71D-22A7-429F-A3DC-7DAAAEFD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F7B34E-F5C4-40DA-9AE2-D429825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FEB6-4436-4700-B7B2-FD39855A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63E1E-96B6-4FBB-94BE-3B664B42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77DB3-73ED-471D-A283-A0E2DE6F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710BD-6740-4144-A0E5-93E095EC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641C4A-2BF4-48E2-984F-E90C6BC4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0E9EB-3989-49CA-A660-4A3A71BC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95EF0-747E-48D1-85C5-AE2336B3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64F54-F6AB-4727-AA5A-B25C6D83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BDDF6-CB7A-4E95-9E13-E3CD08EF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D52E7-E554-486D-8F94-4B97FFF6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05587-68D5-4B7C-8E51-F07EAE5A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C14-DCAC-4834-A78D-855087D8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92E0-4416-45C9-BEF8-AC4886C3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32C10-A662-4952-B2CC-0E486C18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B9C24F-04E3-400D-BB24-38C6DB6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7C95B-6765-49E9-BE7A-FE18A4C7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40E94-ADD3-486B-A3F5-09CCAF4D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3A430-2BF7-4CE7-B032-20363AC1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0E2419-0991-4F7D-BE9B-3C1E6609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E191A-4302-4D61-B2F2-6DC8105E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C2AB3-5790-4428-8D7B-BCE820EC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8226A-882E-401F-B108-57340581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6EB71-C590-46C4-B04D-221698A2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386F-3A45-4039-8427-19329DDA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64982B-8DDF-44FF-BF36-B11A80B3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B565A-07F9-4750-80FD-5D5F3833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77465-C6D1-47CF-8051-88AE40A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78626-4079-4871-A157-36E6A85E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3B9EA-A167-4921-A965-25EF04D2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0F6324-DFD7-4BA7-BFC3-88155697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6C0F7-10E7-4850-A2DF-246B937D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FA5A5-E230-4F95-BC43-403C079E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CBAD7-842F-4C2D-A89F-A6661B36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AAD0F-52FB-40B3-A617-24F550D6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8EC6-DB27-4F6C-A389-A3356832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67917F-A0C4-45A9-8498-100F969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5A628C-AB0C-4936-96BB-B64D5AB2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70CC9E-20CE-4638-A563-39E468E8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6F69D9-85F3-4E7B-8C4C-F7ED57F1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C34EC-99C7-496F-A608-F60CA13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0C5A0-741B-4F68-B3F1-73EEE309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6D59D1-53A5-4212-8893-C9922E9F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41D6F5-ABE7-442E-A0F4-1785CE20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85C96-9A48-43BD-B485-5AEEA116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39FC1B-0FE5-4248-9D74-63AFBBA2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010A-C0A7-404F-A11F-D7F89F32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813B6C-4E66-489F-9C0D-AC0459DC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79B7D-2867-411D-8E7E-FBBD3CF7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24613-C88B-4EDE-897E-6480E1B9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C8B4E-77E5-47C2-A632-369A7359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00844E-13F4-4FEB-B312-3FD5EB08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E4B6C2-069E-4D34-AF53-8A2693CD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DAA03-A340-4A2F-A35C-83950488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36E3D6-CA2B-40D3-ABDB-FFD6F965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A8BD84-83A4-447B-8DBA-77A918DC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0BCE79-74CC-4432-BDD2-077F1ADA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A3E2-96CF-474D-A57E-2603E805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DFF24-877F-4725-8C9C-029970A0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A3722-DF9E-4371-9588-C35C3F6C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9F7CE-DE4A-4540-B4E9-921A86D3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749CA4-6828-4D77-8E3B-ECE80AD3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9D190-51C1-4763-999D-92A63D06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D94FB-F142-4D9F-B577-9AAC20AB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4B2BF-09E0-45C1-AA24-2BB7EB92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1396D5-0022-4C42-8AEB-159EE772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1A612D-FD7A-40D6-A350-F4621CC0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48384D-5D24-41C7-A7C9-717680B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CEE1-E121-4294-A248-1E817A46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54AAC7-9BDD-4094-BDED-5964AC60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9EA35-233B-44C0-8242-A0D133BE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319636-ED98-4D0F-A224-9F3D8CCB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E7D9-DB6C-4C90-A409-15BB7351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460B-CDFC-4FEB-B1CB-A808DA83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01FB0-FD29-4EBD-A959-07630B59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BF5B-7D9C-4D1B-8EB3-5563F5D7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813-5FC7-4C2B-8280-314072A1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9F51-2B2E-49CA-AA9B-D8B90B13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C436-E4AE-4D65-961C-5870D44C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F3724-468F-4C49-A48C-C0D33881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DA8F-840B-44D7-986D-A83E7A9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5EA1-6909-409D-BC1D-1A43F716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29A2-3997-497C-B8EB-28610263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2784-55DC-4CC7-B3E7-615E6837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6999-7F13-4299-80B6-C0C3CD56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CB94A-A104-4616-8EC7-25904AC4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BCC25-E37D-4596-BBB1-6CB9FAE5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A0D-CDAD-4F71-B12D-83F11298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E7A2-3687-43F7-A71E-E279886C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BE30C-F5F6-4227-A850-882EEFD2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333F9-44F7-458A-9437-CF1BA77D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43813-8BD1-4D9C-9B04-1005E3EC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F2459-918F-4C34-91CB-0D9BE02A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2193-0817-4539-8FD7-4DF82017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9435-C123-4F4B-82E6-DA8292E9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8E03-0620-442B-96D6-452CCD59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EBBB-B626-4FF7-8C52-B1B701C0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BD57-1C83-4A80-8E1B-5388E4B2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199-7795-49A8-AB0D-EBC67E83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968B8-ABC8-4289-A80E-85E59EC5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5FDB-51B0-4329-B4DB-4B8E5BC2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3AC82-4758-4D16-B1F5-1D4854A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BA6E8-6FD3-458D-A3C1-7688769B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68D9E-4CEF-4F3E-8277-F0747007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6E950-6428-4C05-884E-DC726789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4C06D-02C3-4FC0-957B-30AC597F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7E04-9EA5-492E-AA14-6AA810E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3DC5C-5C46-4976-88A2-40A3F9CA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EB42F-A869-46FD-87AC-194ED62D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DD5-E76C-486A-8771-A4BC04C5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BC4DA-EBC2-4AE2-8515-06D42D47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1364B-74A7-4EB5-A7E2-81BA607D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24818-C0A7-4B41-8D02-5EF9166E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03017-D5C1-4769-9267-7122F16A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41ADE-5A08-4D10-81EA-24091834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72005-97AD-4B1B-AECB-2894CEC3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ED87-1167-4B27-A1C1-AD3C8837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E5B0F-E347-41C9-83CA-A96D3BA6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6847D-54FA-49EF-9FEC-9F2674D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952D2-72A3-4ACB-8CD1-F8B8FCC8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6F3-8CBF-4AB8-B960-CA06BA37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669CA-081B-48A7-975E-700198D6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90DFA-4464-45EC-B254-4276CC4D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BFC7C-F873-445B-8443-22E02EA8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C2417-EBC6-462E-9F2E-F6DCD2D4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7DD2F-55D8-46D4-9626-42694900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57B48-7F8A-48D8-9AED-C50A3D1F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1EEE3-4349-4D21-98E6-B9D2CC99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47D85-92C6-4BDB-A5F9-5C5D00C6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00A8C-6496-487A-8217-B7D45F77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76F95-9F22-440A-99EE-07D892FC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273-E75E-467A-9DA1-D0DD27D6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A1FC9-9FFC-4BD6-9DDF-B7B972D2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61DA6-F5E7-40CC-A8B1-E9A82B9F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49E09-5D4A-4E08-9520-2573B655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9EB65-6AEF-481C-8CA0-38C27B41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910AF-ADA3-4A30-B012-6C2E2A98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764E9-8342-413E-A409-A8BB6C64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01EA6-8535-4639-9332-F6350D30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6093C-EF2B-455B-B712-BC6810C4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D0B6A-F1D5-4B47-A8AF-E9B5452C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DD38-F710-4EB0-B7F0-F880EEBC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C84-A97C-47B0-8123-99F08A33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3E26C-C207-44A7-B476-799AD2C5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795F8-1DD4-4794-8099-C04C2E19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08B80-0CDB-487C-8C74-3B4E83F9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AE5AF-3397-471B-A10D-489CF9DE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6A617-122A-4448-A465-684B4ADB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45069-7D0E-42D8-A480-BF2C2E52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2564A-F4B1-4C7D-B026-5328D41A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48115-E450-4B6F-BB17-C7E6E7DB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860BB-E10C-4EC9-9FBA-C05ACD37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5F917-E314-4F52-8D88-D588AFA9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5B63-BFB8-4B58-A731-288B394FDF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B229-E920-4FD6-8D06-09E70A7D42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5192-2734-4F65-9371-2537447A04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563-63B4-4843-B93F-8CFD288E84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17CE-5D90-4518-AF36-54F05DCE5D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37DD-75AA-432C-B299-0D0EBDEB61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1E50-52C4-4332-8B96-A307D29365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15E8-8B82-462D-8182-402EAC0DB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E2D1-22E3-42C6-85EE-0C1F5FCA9A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0379-8353-4E17-91F5-2F3AB2F4F0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4675-18D2-4219-8E35-C30EC20690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0742-2A3D-449C-A3D7-CE7F4BFA47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8DF0-C52F-496C-A59C-17E7FE840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C2C-39A1-47E9-8B4A-1B187F02F6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3E0F-A6CF-48C6-8372-927931722A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8AAB-659A-499E-85E5-7A5971CC0F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80E6-0B33-4160-A578-B5FC2BD87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3658-28AF-4E7A-AF55-66E3F3B40F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8073-0DA3-435B-8B29-E1AB6D951D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BEC3-E4E0-4734-A5D5-4D670BC2E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ECE7-A815-404C-AC26-EA1556A6E8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1BC5-DC0E-445B-80CA-6A0D5203C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24A9-1859-4B78-BEEF-9B9BEF299D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599A-DC95-46E4-838C-4BAC3C3C7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4071-9D5B-4C0D-A573-1784647C3F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56FB-9FC8-4CEB-951F-FA68CABB79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631B-9E40-4389-97D8-2F66555AF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50FC-6613-4AFE-997F-7E88A5D250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740F-C6F0-48B4-9EE4-1343B537F0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32A8-7D10-4743-AD5E-3691E13649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FC1D-D224-4667-8F16-B866F706DA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0C14-6FE1-4141-AAFE-6A38EBA8C6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3E9E-D6DA-4DCE-8376-0563862782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0DD3-C038-4B62-8107-6D15FD9744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249B-B721-4201-A1E8-F696D5273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BA6A-61BB-4CD0-AC4A-AD00DAA439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1214-C6BE-4D4E-BF8C-D1B1F3097C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672A-FED5-4CA1-8C27-715D39E6E0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D1F8-AC68-4400-842B-46886A87AB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17FB-4149-41F2-90B2-DC7BCE24CA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250920" y="2724120"/>
            <a:ext cx="87264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69633" descr=""/>
          <p:cNvPicPr/>
          <p:nvPr/>
        </p:nvPicPr>
        <p:blipFill>
          <a:blip r:embed="rId1"/>
          <a:stretch/>
        </p:blipFill>
        <p:spPr>
          <a:xfrm>
            <a:off x="276120" y="2000160"/>
            <a:ext cx="8591760" cy="28576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539640" y="317016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8280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219320" y="795240"/>
            <a:ext cx="6705360" cy="5267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403280" y="1989000"/>
            <a:ext cx="5905440" cy="476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403280" y="2565360"/>
            <a:ext cx="5905440" cy="476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1332000" y="3141720"/>
            <a:ext cx="5905440" cy="476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1690560" y="4869000"/>
            <a:ext cx="5905800" cy="476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1619280" y="5445000"/>
            <a:ext cx="5905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9410" descr=""/>
          <p:cNvPicPr/>
          <p:nvPr/>
        </p:nvPicPr>
        <p:blipFill>
          <a:blip r:embed="rId1"/>
          <a:stretch/>
        </p:blipFill>
        <p:spPr>
          <a:xfrm>
            <a:off x="938160" y="790560"/>
            <a:ext cx="7267680" cy="5276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611280" y="1801800"/>
            <a:ext cx="6769080" cy="8636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6769080" cy="863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971640" y="5300640"/>
            <a:ext cx="6769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8373" descr=""/>
          <p:cNvPicPr/>
          <p:nvPr/>
        </p:nvPicPr>
        <p:blipFill>
          <a:blip r:embed="rId1"/>
          <a:stretch/>
        </p:blipFill>
        <p:spPr>
          <a:xfrm>
            <a:off x="723960" y="853920"/>
            <a:ext cx="7696080" cy="57438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684360" y="1440000"/>
            <a:ext cx="7559640" cy="476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7559640" cy="476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7559640" cy="792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395280" y="5805360"/>
            <a:ext cx="7559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7352" descr=""/>
          <p:cNvPicPr/>
          <p:nvPr/>
        </p:nvPicPr>
        <p:blipFill>
          <a:blip r:embed="rId1"/>
          <a:stretch/>
        </p:blipFill>
        <p:spPr>
          <a:xfrm>
            <a:off x="785880" y="866880"/>
            <a:ext cx="7572240" cy="51242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684360" y="1440000"/>
            <a:ext cx="7343640" cy="476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826920" y="2060640"/>
            <a:ext cx="7344000" cy="476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826920" y="2637000"/>
            <a:ext cx="7344000" cy="4759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828720" y="4321080"/>
            <a:ext cx="7343640" cy="476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6"/>
          <a:stretch/>
        </p:blipFill>
        <p:spPr>
          <a:xfrm>
            <a:off x="971640" y="4941720"/>
            <a:ext cx="7343640" cy="476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7"/>
          <a:stretch/>
        </p:blipFill>
        <p:spPr>
          <a:xfrm>
            <a:off x="971640" y="5518080"/>
            <a:ext cx="7343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6324" descr=""/>
          <p:cNvPicPr/>
          <p:nvPr/>
        </p:nvPicPr>
        <p:blipFill>
          <a:blip r:embed="rId1"/>
          <a:stretch/>
        </p:blipFill>
        <p:spPr>
          <a:xfrm>
            <a:off x="539640" y="744480"/>
            <a:ext cx="6724800" cy="347652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56325" descr=""/>
          <p:cNvPicPr/>
          <p:nvPr/>
        </p:nvPicPr>
        <p:blipFill>
          <a:blip r:embed="rId2"/>
          <a:stretch/>
        </p:blipFill>
        <p:spPr>
          <a:xfrm>
            <a:off x="1101600" y="4435560"/>
            <a:ext cx="5991480" cy="21621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826920" y="1873080"/>
            <a:ext cx="6121440" cy="476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826920" y="2421000"/>
            <a:ext cx="6121440" cy="476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826920" y="3025800"/>
            <a:ext cx="6121440" cy="476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826920" y="3573360"/>
            <a:ext cx="6121440" cy="476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1042920" y="4983120"/>
            <a:ext cx="6121440" cy="476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1042920" y="5530680"/>
            <a:ext cx="6121440" cy="476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971640" y="6165720"/>
            <a:ext cx="6121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55300" descr=""/>
          <p:cNvPicPr/>
          <p:nvPr/>
        </p:nvPicPr>
        <p:blipFill>
          <a:blip r:embed="rId1"/>
          <a:stretch/>
        </p:blipFill>
        <p:spPr>
          <a:xfrm>
            <a:off x="1409760" y="1781280"/>
            <a:ext cx="6324480" cy="32954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258920" y="2708280"/>
            <a:ext cx="6985080" cy="865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476360" y="3716280"/>
            <a:ext cx="6985080" cy="865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2700360" y="4681440"/>
            <a:ext cx="201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54276" descr=""/>
          <p:cNvPicPr/>
          <p:nvPr/>
        </p:nvPicPr>
        <p:blipFill>
          <a:blip r:embed="rId1"/>
          <a:stretch/>
        </p:blipFill>
        <p:spPr>
          <a:xfrm>
            <a:off x="295200" y="1947960"/>
            <a:ext cx="8553600" cy="29620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611280" y="3716280"/>
            <a:ext cx="7632720" cy="476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7632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52231" descr=""/>
          <p:cNvPicPr/>
          <p:nvPr/>
        </p:nvPicPr>
        <p:blipFill>
          <a:blip r:embed="rId1"/>
          <a:stretch/>
        </p:blipFill>
        <p:spPr>
          <a:xfrm>
            <a:off x="519120" y="1990800"/>
            <a:ext cx="8105760" cy="28764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324000" y="3184560"/>
            <a:ext cx="8351640" cy="476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8352000" cy="476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395280" y="4292640"/>
            <a:ext cx="8352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07:3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